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818-263B-4B5E-8602-B89C8C0E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95C-0A98-47E7-85C3-FE32446A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BFA-9953-42BF-A9C0-F412B3DF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626-DA62-4F10-A34C-824FB664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923E-E893-4642-8EDA-0D633DE8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8151-B17A-4F0E-96C2-E5EE18C9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2BF6-DE0E-4473-AB97-1914D70A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38E5-0E56-45F4-870D-56253A77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F13B-B5F7-4F6F-A574-0BE3B9A6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6124-7259-46B4-BA2A-460D6AFD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FA08-7EE3-4466-B178-1E0A2CD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E73-09C3-414A-9337-1EDF9129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08B6-EAE9-4358-879B-7FCD7243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16A1-29E8-4441-831C-7CC6E8F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FB1C-6F6C-4ADD-B22A-2A8A04E7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88C1-ADAB-43E1-B4C4-94180A05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BBE5-9ECC-4385-B210-8243FF33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385-7F7C-4AFD-825F-E25E3CC7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C5C-9508-46FF-8CF3-2CEE849E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05D-1A45-4086-AE8E-EAE2B987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425-BAC7-4EA1-9DE2-274C99AC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032-1F9C-4554-905D-A27876E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3AE-F1F3-4F5E-BF1F-DF6D1967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80F-F99E-4EAE-AA4C-4E29236E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C175-2C2F-463A-BB63-E29134503C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A782-D0E5-4CCF-A020-63AF0302CD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620640"/>
            <a:ext cx="7772400" cy="302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dff"/>
                </a:solidFill>
                <a:latin typeface="Comic Sans MS"/>
              </a:rPr>
              <a:t>Об особенностях введения федерального государственного образовательного стандарта основного общего образования по мере готовности общеобразовательных учреждений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3809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Соотношение обязательной части</a:t>
            </a:r>
            <a:br>
              <a:rPr sz="2000"/>
            </a:b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и части, формируемой участниками образовательно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ГОС НОО: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80% и 20%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целях обеспечения индивидуальных потребностей обучающихся предусматриваются учебные курсы и внеучебная деятельнос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ГОС ООО: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70% и 3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асть,формируемая участниками образовательного процесса предусматривает: возможность введения учебных предметов, курсов, обеспечивающие различные запросы обучающихся, реализацию индивидуальных проектов и внеурочную деятельнос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2665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Нормативное обеспечение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ациональная инициатива «Наша новая школа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н действий по модернизации общего образования на 2011-2015 г.г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ЦПРО на 2011-2015 г.г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нструктивно-методические письма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О введении федеральных государственных образовательных стандарто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бщего образования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Об организации внеурочной деятельности при введении федеральног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осударственного образовательного стандарта общего образова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имерные основные образовательные программы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сновного общего образования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льный перечень учебнико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льные требования к оснащению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73400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Особенности требований к кадровым условия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ответствие уровня квалификации работников образовательного учреждения требованиям, предъявляемым к квалификационным категориям (первой или высшей), а также занимаемым ими должностям устанавливается при их аттестац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прерывность профессионального развития педагогических работников образовательного учреждения должна обеспечиваться освоением ими дополнительных профессиональных образовательных программ в объеме не менее 108 часов и не реже одного раза в пять ле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2152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Критерии готовности ОУ к введению ФГОС ОО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здании проведен необходимый текущий (капитальный) ремон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У имеет необходимый набор помещений, предусмотренный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ГОС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У располагает полным комплектом средств обучения по всем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бным предмета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ОУ выполняются требования СанПиН 2.4.2.2821-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разовательное учреждение обеспечено необходимым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бниками в соответствии с федеральными перечням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учебно-методическими пособиям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 свободный доступ в Интернет для педагогов 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учающихс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ичие электронного классного журнал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ичие электронного дневника учащегос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пользуется Интернет-сайт для публикации и размеще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разовательных продуктов (система электронного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тфолио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ичие в Публичном отчете ОУ раздела, содержащег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формацию о ходе введения ФГОС ОО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300720" y="4846680"/>
            <a:ext cx="24480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ФЗ «Об образовании» –изменения, поддерживающие ФГОС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выбирать учебные курсы как в ОУ, так и вне его(внешкольные ОУ, учреждения культуры, спорта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ация,,направленная на содержательную оценку образовательных программ, а не на присвоение статус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е подушевое финансирование, гибкие финансовые механизмы (целевое финансирование, программы развития, образовательное кредитование и пр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ёт особенностей получения образования для детей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танционное образование и сетевое взаимодействие как расширение возможностей индивидуальных образовательных програм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образования: переход от распределения статусов к содержательной оценки результатов образован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•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ое участие:расширение полномочий, реальная дееспособность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личие компетенц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4581360"/>
            <a:ext cx="21528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сё о введении ФГОС ООО на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standart.edu.ru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Спасибо за внимание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771640" y="3716280"/>
            <a:ext cx="3024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собенности введения ФГОС ОО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Особенности введения,обусловленные особенностями ФГОС ОО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 Особенности введения,обусловленные системными изменени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ФГОС ступеней обучения –</a:t>
            </a:r>
            <a:br>
              <a:rPr sz="2400"/>
            </a:b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преемственность и развит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094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ГОС начального образ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51280" y="1916280"/>
            <a:ext cx="2881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ГОС основного образова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2492280"/>
            <a:ext cx="1984320" cy="1801800"/>
          </a:xfrm>
          <a:prstGeom prst="rightArrow">
            <a:avLst>
              <a:gd name="adj1" fmla="val 50000"/>
              <a:gd name="adj2" fmla="val 2753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200"/>
                </a:solidFill>
                <a:latin typeface="Comic Sans MS"/>
              </a:rPr>
              <a:t>преем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200"/>
                </a:solidFill>
                <a:latin typeface="Comic Sans MS"/>
              </a:rPr>
              <a:t>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447640" cy="2303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195640" y="4653000"/>
            <a:ext cx="2160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ортрет выпускника начальной шко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юбящий свой народ, свой край и свою Родин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важающий и принимающий ценности семьи и общест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юбознательный, активно и заинтересованно познающий ми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ладеющий основами умения учиться, способный к организации соб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отовый самостоятельно действовать и отвечать за свои поступки перед семьей и общество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брожелательный, умеющий слушать и слышать собеседника, обосновывать свою позицию, высказывать свое мн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яющий правила здорового и безопасного для себя и окружающих образа жиз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095480" y="50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516720" y="5300640"/>
            <a:ext cx="1800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ортрет выпускника средней шко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ящий свой край и свою Родину,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знающий свой родной язык, уважающий свой народ, его культуру и духовные традици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осознающий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 принимающий ценности человеческой жизни,семьи, гражданского общества,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многонационального российского народа, человечеств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ктивно и заинтересованно познающий мир,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осознающий ценность труда, науки и творчеств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меющий учиться,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осознающий важность образования и самообразования для жизни и деятельности, способный применять полученные знания на практике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циально активный,уважающий закон и правопорядок,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соизмеряющий свои поступки с нравственными ценностями, осознающий свои обязанности перед семьей, обществом, Отечеств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важающий других людей; умеющий вести конструктивный диалог, достигать взаимопонимания,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сотрудничать для достижения общих результат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осознанн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полняющий правила здорового и безопасного для себя и окружающих образа жизн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ориентирующийся в мире профессий, понимающий значение профессиональной подготовк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Метапредметные результа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ФГОС НО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своенные обучающимися универсальные учебные действия (познавательные, регулятивные и коммуникативные), обеспечивающие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владение ключевыми компетенциями, составляющими основу умения учиться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и межпредметными понятиям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ФГОС ОО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своенные обучающимися межпредметные понятия и универсальные учебные действия (регулятивные, познавательные, коммуникативные)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способность их использования в учебной, познавательной и социальной практике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самостоятельность планирования и осуществления учебной деятельности и организации учебного сотрудничества с педагогами и сверстниками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остроение индивидуальной образовательной траектори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Требования к структуре основной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образовательной программы основного общего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се компоненты основной образовательной программы основного общего образования  распределены по трем разделам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елевом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держательном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рганизационном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2952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Учебный план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филология (русский язык, родной язык, литература, родная литература, иностранный язык, второй иностранный язык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бщественно-научные предметы(история России, всеобщая история, обществознание, география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тематика и информатика(математика, алгебра, геометрия, информатик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сновы духовно-нравственной культуры народов Росси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тественно-научные предметы(физика, биология, химия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искусство (изобразительное искусство, музык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ехнология (технология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физическая культура и основы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безопасности жизнедеятельност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4581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Особенности итоговой оценки достижения планируемых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ФГОС НО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накопленная текущая оценка урочной и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328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ФГОС ОО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ценка за итоговые стандартизированные работы и оценка за выполненн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роек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овень освоения основных способов действий в отноше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 опорной системе знаний, необходимых для обуч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следующей ступени образ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429000"/>
            <a:ext cx="33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нам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дивиду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разовательных дости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движение в дости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нируем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06:49:13Z</dcterms:created>
  <dc:creator>admin</dc:creator>
  <dc:description/>
  <dc:language>en-US</dc:language>
  <cp:lastModifiedBy>admin</cp:lastModifiedBy>
  <dcterms:modified xsi:type="dcterms:W3CDTF">2013-01-08T16:02:27Z</dcterms:modified>
  <cp:revision>6</cp:revision>
  <dc:subject/>
  <dc:title>Об особенностях введения федерального государственного образовательного стандарта основного общего образования по мере готовности общеобразовательных учреждений</dc:title>
</cp:coreProperties>
</file>